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media/image13.wmf" ContentType="image/x-wmf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961-C4A5-4255-BC22-CAA98FA1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2B8-9741-468E-9FBB-5528A68A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82D5C-DA9E-4F55-B6D1-34376E66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7320C-4116-4045-BADB-6B2D4B93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A9EF5-DBE6-4DF8-87EE-4DCFA0F9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4D702-C0D5-4BEA-A76D-23CA29B2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E7498-53E9-4573-9C45-60C4A855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F66EF-6565-40E6-9614-D2B210D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DC20C-1BC3-4573-A689-DAA26DD1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F8D73-C608-4E30-A775-400DA88B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E8B0D-67F5-468D-84E2-3D50ADAC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03E91-C6EE-4379-96AA-90051CE9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F7D-1E5E-4D66-9987-B47157B3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2DE31-B6BC-404B-8307-22A4CC46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015CE-FED0-423E-85B6-BE89AEBB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F9D18-42A1-4B98-A563-9C5B6CE8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463CD-D9F5-42A2-9F63-2C23A6AD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854CD-6C2C-4873-80D5-1491E41D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64529-3A9E-4A82-B957-346AA65D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5E244-D7B0-41E9-AF31-F81ED0B8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AFA68-889A-4E77-A86B-B32C6DD0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722E4-AE55-4637-82CE-519BA9EC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6D505-F3CA-4048-B882-066D3703E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7E5-D32F-4B8D-8BAE-B2206ECE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98372-7C72-41CF-8E6D-59048891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6CCFE-4312-413E-85D0-0096EF18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26CF4-8BF1-4DC4-A0D7-ADC82A75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4A6A9-C534-4681-A63A-D4344506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30800-93F6-4577-96B2-06926257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45AB1-C787-4BC6-90B9-A61D7242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26DD2-A533-42C7-A8BE-8B506E65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A2CBF-E522-4CB3-B426-BDB13256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F0613-C0BD-4E1D-9FE4-0AAE72E0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4BC51-48EE-44F3-AC6F-74699ADC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781D-4644-416C-985D-5E89B4D7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6F21D-DFFD-499B-AF74-E6098D1E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CAB93-646B-4A52-AFC4-0FA9ECE7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55FD6-780D-4AF3-859B-D29103FA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91D26-A18B-4A24-8FF4-86D71247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443F8-C840-4C53-A570-7638763D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96BCC-B182-4451-99F9-1019B395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29C1E-F6DA-4222-8D78-AA8D7688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349C0-7076-47AC-AD0C-339DEF4F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A5932-3C0F-4BE7-99CA-86CB1736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CF61F-72BE-4A19-88C2-BAC37DCC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7C78-6413-45EB-B63D-B30C3649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9199B-2086-4698-A24C-980AA7D0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9EB8F-01D0-4F17-8F9C-2C6D0436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4E305-8FC6-402E-B57B-6D3EB62C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4A7A1-0A33-47F8-AA97-3F602EF1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38A8F-B743-4BD9-9B05-EF10F79B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9099-B9A9-4BBA-B258-CD94F3EF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CF1D-21FB-4F5F-9849-20CB87AF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5289-83B7-43FE-8933-B6BED183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E953-0C68-4DA8-BFAA-8E307CD8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2C77-05C7-4C8E-92AF-0EBAECA9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C18-7B19-48B7-A61F-D48E541E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2B84-FEDD-49C0-8CF8-02A007E6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6F65-0F6C-4D23-9297-0006EEBE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27AB-28A3-4ED7-A4C1-2AC41004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042E-7F7E-46F5-BA0B-FA2728B0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DE1C-79F5-4FDE-A027-D92940C5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AF775-3CB9-4CB6-9829-4D667B9D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79F46-A740-42A5-9815-3EDAB23B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8F08-B13A-4148-9D24-7ECCB7A0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A3FC6-A051-43A9-A14A-805DF614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BAB38-C952-431F-A294-EBE3F4D0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8F31-9DDE-481A-A232-8A1E1A18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2D48-4897-49EB-A3D6-39AFB984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B9819-0C79-41D6-969A-6883D89D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29552-916B-454C-85AE-AE201F02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523B-17C7-45F0-AD3B-029E70E2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582F3-A8C1-4B5B-9445-1A4073AC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8A311-2CE7-4519-8FC7-70668BAC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AF4ED-1659-4E91-A71B-1501F824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D15D2-6B4A-440E-933A-E40FCAB9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FD64E-4774-473E-B758-7840CB12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C72F0-9121-4547-845A-D4961A0D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EBD-FDB0-4D13-AD61-0FD7F2DA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DC92D-541D-49B8-87AA-CAAB385E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3A339-D4AC-41FD-88E6-C14D0319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68C9C-E041-4A21-B9A2-E9E27B58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D9F81-DA3A-4A9F-9098-2B3A2B6E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C24BF-FF1D-4E2E-A767-933AE5F4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44B0C-C4A1-4CBB-8506-8216CA73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656A6-6E4F-4E94-85A0-91895393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B7B12-5868-460E-A449-1AAE9F3B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E0F7D-D97B-44CF-9652-C9313B37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78310-C8C3-4398-8471-F7A4FA9A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9E3E-2ED1-4A0B-8ED0-41B67AE3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50A25-E327-4238-9547-D1C63904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55F86-BFC5-475B-B116-7F8B16CA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A447B-69F3-45C7-8C7A-F42D7A92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03C8F-6D2B-42FE-B758-08A642EA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AF35B-620D-4BAD-B914-130C98D2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ACC9A-13EF-4CE9-96AC-7BFF6B2C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83968-F3E3-4FFC-B3E9-3650C591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25163-4874-464A-8266-91B2C34A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D62FA-FAB4-49A6-B7AF-73D2C203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BAAE5-3E75-49BB-BFBC-3E418B88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1CB-DC7A-446B-9DCA-66C16B3D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F2AB6-D9B2-4153-A4B2-6009CF6C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27925-F354-4F35-AB0D-0A9C8E86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E3843-A04A-47AD-A8C9-205521F3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3CDFF-881B-4D9D-AD11-90535DB4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C9CD0-28AB-4D87-9532-A103D658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DB2B6-23B6-46C4-99F6-E7149DFE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1A11D-E890-4DF9-BCF9-10C3D17D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5EEB6-AE97-4A81-8601-EBC908B1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967EF-6134-4950-AF20-4504948F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EA0A1-87E3-451E-9EC5-CB3D0812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0C7-CC0E-467C-A516-0F867853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74C55-95B4-45AE-AB2C-3679F1AF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0F506-D28D-44BC-955E-CD50545E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48A7D-1133-4695-94F0-BCADE2BF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FA67E-5432-48C9-B158-7EC57662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ABA7E-E264-4C79-BB4C-31DE3A71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46809-0D0E-4915-B693-D2D2C891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F7AF1-7D56-4AD8-ABE6-7EE6FD5F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7FE1F-B893-47E0-929E-AF57C020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91CFE-0B93-4C17-994B-3B9D17EC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83A65-B5FD-44B7-B5DE-59D627B1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8E2-9490-408A-8784-F873CC7C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10407-51DB-4D3E-A31F-476FF829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0A8EE-8210-4057-9E50-39DBE98D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79874-1FE5-45E4-A2AF-1C25BAB1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75638-A643-427C-9743-C9D17ACA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D5380-0768-4DD8-A0A3-0EEBD8EF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8D2A9-4FED-447D-8874-074BB1C6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777FF-E2D3-42E9-BEEB-2975BAC7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736DB-3175-45F7-8F9A-BCD6D9CA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04DBB-A669-48D8-9BAC-D01BD431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F7FF5-AD43-4EF7-8605-A2823705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683-BC26-4300-B915-2307B232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F0329-BB38-4D80-80D9-CC36DD0F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314D7-3DBE-4B13-A05F-F12014DC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6E012-B5FF-4366-BC82-281FC286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99F67-2E24-4578-8A3B-6A2FF8C8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F6C29-CB2C-45E9-A7B9-417A75A2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072AF-D318-4C63-971D-59483FFE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20548-DFFF-49D5-A954-3D725D1D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C298D-C395-4885-884C-20CE78E3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ECD3F-9ACF-4C22-B4EC-2AD2580F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0A4AA-2777-40D4-8AF3-45C1607B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E430-9B92-4BA8-82C9-E178B1A6F99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D6DC-0E46-420C-AA84-0D6E7703306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58F3-5EA8-4420-AAF3-BD80E421A44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C75A-2A62-4155-9397-8E23665B8F9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6259-F6BA-4E85-82A7-43141C5F560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C995-CB5E-45D1-BD55-E094A47D8B6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6" name="Slika 7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FBA9-6AE7-4410-99C3-46E8B3BE075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D2BE-21CB-449B-B19A-CE0B97C7879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1865-26BE-4DCC-95A0-DDC0B049A4F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C735-CA00-4E1A-BB05-8AA1E6854BF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F40A-A4D0-4657-BD30-772A65C8D6A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37" name="Slika 7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0185-D2F5-47E7-8702-177D746A9BC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e19"/>
                </a:solidFill>
                <a:latin typeface="Arial"/>
                <a:ea typeface="Arial"/>
              </a:rPr>
              <a:t>Mjerimo temperatu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4838"/>
                </a:solidFill>
                <a:latin typeface="Arial"/>
                <a:ea typeface="Arial"/>
              </a:rPr>
              <a:t>Unutarnja energija i topli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3"/>
          <p:cNvSpPr/>
          <p:nvPr/>
        </p:nvSpPr>
        <p:spPr>
          <a:xfrm>
            <a:off x="231840" y="1676520"/>
            <a:ext cx="67780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Čime mjerimo temperatur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d kojih se dijelova sastoji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alkoholn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termomet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iši Celzijevu temperaturnu ljestvic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va je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lvinova temperaturna ljestvic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apsolutna nula temperat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Slika 1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27352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4"/>
          <p:cNvSpPr/>
          <p:nvPr/>
        </p:nvSpPr>
        <p:spPr>
          <a:xfrm>
            <a:off x="380880" y="14479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lika mora biti temperatura vode da bi bila ugodna za kupan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mjerimo našu tjelesnu temperatur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245040" cy="4572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5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9718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6"/>
          <p:cNvSpPr/>
          <p:nvPr/>
        </p:nvSpPr>
        <p:spPr>
          <a:xfrm>
            <a:off x="29520" y="1295280"/>
            <a:ext cx="556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pitivanje temperature s pomoću osj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914400" y="5181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žemo li odrediti temperaturu pomoću osje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0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093840" cy="20574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1" descr=""/>
          <p:cNvPicPr/>
          <p:nvPr/>
        </p:nvPicPr>
        <p:blipFill>
          <a:blip r:embed="rId2"/>
          <a:stretch/>
        </p:blipFill>
        <p:spPr>
          <a:xfrm>
            <a:off x="4419720" y="2362320"/>
            <a:ext cx="3047760" cy="2085840"/>
          </a:xfrm>
          <a:prstGeom prst="rect">
            <a:avLst/>
          </a:prstGeom>
          <a:ln w="0">
            <a:noFill/>
          </a:ln>
        </p:spPr>
      </p:pic>
      <p:pic>
        <p:nvPicPr>
          <p:cNvPr id="553" name="Slika 6" descr=""/>
          <p:cNvPicPr/>
          <p:nvPr/>
        </p:nvPicPr>
        <p:blipFill>
          <a:blip r:embed="rId3"/>
          <a:stretch/>
        </p:blipFill>
        <p:spPr>
          <a:xfrm>
            <a:off x="312840" y="809640"/>
            <a:ext cx="13557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3"/>
          <p:cNvSpPr/>
          <p:nvPr/>
        </p:nvSpPr>
        <p:spPr>
          <a:xfrm>
            <a:off x="2917800" y="64296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Termomet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1080360" y="1676520"/>
            <a:ext cx="63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u mjerimo s pomoću termomet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3657600" y="2438280"/>
            <a:ext cx="533412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Živin termomet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koholni termome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iječnički termomet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(toplomj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2971800" cy="2189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1676160" cy="1698480"/>
          </a:xfrm>
          <a:prstGeom prst="rect">
            <a:avLst/>
          </a:prstGeom>
          <a:ln w="0">
            <a:noFill/>
          </a:ln>
        </p:spPr>
      </p:pic>
      <p:sp>
        <p:nvSpPr>
          <p:cNvPr id="559" name="TextBox 9"/>
          <p:cNvSpPr/>
          <p:nvPr/>
        </p:nvSpPr>
        <p:spPr>
          <a:xfrm>
            <a:off x="846360" y="487692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Živin termome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0"/>
          <p:cNvSpPr/>
          <p:nvPr/>
        </p:nvSpPr>
        <p:spPr>
          <a:xfrm>
            <a:off x="6259320" y="579132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gitalni  termome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3"/>
          <p:cNvSpPr/>
          <p:nvPr/>
        </p:nvSpPr>
        <p:spPr>
          <a:xfrm>
            <a:off x="1251360" y="609480"/>
            <a:ext cx="68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Celzijev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temperaturna </a:t>
            </a: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 ljestv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5"/>
          <p:cNvSpPr/>
          <p:nvPr/>
        </p:nvSpPr>
        <p:spPr>
          <a:xfrm>
            <a:off x="457200" y="152388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Celzijeva ljestv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ređena je ledištem (0 °C) i vrelištem vode (100 °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8"/>
          <p:cNvGrpSpPr/>
          <p:nvPr/>
        </p:nvGrpSpPr>
        <p:grpSpPr>
          <a:xfrm>
            <a:off x="1928520" y="3500280"/>
            <a:ext cx="4775760" cy="2531880"/>
            <a:chOff x="1928520" y="3500280"/>
            <a:chExt cx="4775760" cy="2531880"/>
          </a:xfrm>
        </p:grpSpPr>
        <p:pic>
          <p:nvPicPr>
            <p:cNvPr id="564" name="Picture 2" descr=""/>
            <p:cNvPicPr/>
            <p:nvPr/>
          </p:nvPicPr>
          <p:blipFill>
            <a:blip r:embed="rId1"/>
            <a:srcRect l="0" t="16544" r="34394" b="17278"/>
            <a:stretch/>
          </p:blipFill>
          <p:spPr>
            <a:xfrm>
              <a:off x="1928520" y="3500280"/>
              <a:ext cx="471528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TextBox 7"/>
            <p:cNvSpPr/>
            <p:nvPr/>
          </p:nvSpPr>
          <p:spPr>
            <a:xfrm>
              <a:off x="2241000" y="5572440"/>
              <a:ext cx="44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Calibri"/>
                </a:rPr>
                <a:t>Ledište vode               Vrelište vo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4" descr="termometar-zivin"/>
          <p:cNvPicPr/>
          <p:nvPr/>
        </p:nvPicPr>
        <p:blipFill>
          <a:blip r:embed="rId1"/>
          <a:stretch/>
        </p:blipFill>
        <p:spPr>
          <a:xfrm>
            <a:off x="5638680" y="259092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3"/>
          <p:cNvSpPr/>
          <p:nvPr/>
        </p:nvSpPr>
        <p:spPr>
          <a:xfrm>
            <a:off x="457200" y="106668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  <a:ea typeface="Arial"/>
              </a:rPr>
              <a:t>Celzijev stupanj  °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dinica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ređen je kao stoti dio temperaturnog razmak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zmeđu vrelišta i ledišta v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oznaka za temperaturu izraženu u °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1"/>
          <p:cNvSpPr/>
          <p:nvPr/>
        </p:nvSpPr>
        <p:spPr>
          <a:xfrm>
            <a:off x="1251000" y="762120"/>
            <a:ext cx="68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Kelvinova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temperaturna</a:t>
            </a:r>
            <a:r>
              <a:rPr b="0" lang="hr-HR" sz="3600" spc="-1" strike="noStrike">
                <a:solidFill>
                  <a:srgbClr val="ff0000"/>
                </a:solidFill>
                <a:latin typeface="Arial"/>
                <a:ea typeface="Arial"/>
              </a:rPr>
              <a:t> ljestv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2"/>
          <p:cNvSpPr/>
          <p:nvPr/>
        </p:nvSpPr>
        <p:spPr>
          <a:xfrm>
            <a:off x="571680" y="1857240"/>
            <a:ext cx="58575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elvinova ljestv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ređena je apsolutnom nulom (0 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Apsolutna nula temper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jniža moguća temperatura – 273 °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522360" y="5141880"/>
            <a:ext cx="46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Npr. Vrelište helija je −268,93 °C ili 4,22 K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1"/>
          <p:cNvSpPr/>
          <p:nvPr/>
        </p:nvSpPr>
        <p:spPr>
          <a:xfrm>
            <a:off x="572760" y="857160"/>
            <a:ext cx="562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elvinov  stupanj 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0 K = - 273 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oznaka za temperaturu izraženu u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35258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1"/>
          <p:cNvSpPr/>
          <p:nvPr/>
        </p:nvSpPr>
        <p:spPr>
          <a:xfrm>
            <a:off x="1214280" y="1357200"/>
            <a:ext cx="3000600" cy="1373400"/>
          </a:xfrm>
          <a:prstGeom prst="rect">
            <a:avLst/>
          </a:prstGeom>
          <a:solidFill>
            <a:srgbClr val="f2dcdb"/>
          </a:solidFill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  <a:ea typeface="Arial"/>
              </a:rPr>
              <a:t>0 K    =  - 273 °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  <a:ea typeface="Arial"/>
              </a:rPr>
              <a:t>0 °C   =   273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5344920" y="1752480"/>
            <a:ext cx="2145240" cy="581400"/>
          </a:xfrm>
          <a:prstGeom prst="rect">
            <a:avLst/>
          </a:prstGeom>
          <a:solidFill>
            <a:srgbClr val="f2dcdb"/>
          </a:solidFill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+ 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609480" y="350532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mjer: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0 °C   →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 (20 + 273) K  →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 293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 120 K →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=  (120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273)°C →  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= -153 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2:31Z</dcterms:created>
  <dc:creator>Slavko</dc:creator>
  <dc:description/>
  <dc:language>en-US</dc:language>
  <cp:lastModifiedBy>Tomislav Dumančić</cp:lastModifiedBy>
  <dcterms:modified xsi:type="dcterms:W3CDTF">2019-09-17T09:23:18Z</dcterms:modified>
  <cp:revision>31</cp:revision>
  <dc:subject/>
  <dc:title>Slide 1</dc:title>
</cp:coreProperties>
</file>